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AB8C8-3A17-489C-9A3A-37D509BE93E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31D6F-EA65-4B52-802A-67AEF15912C0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59DC-F002-495C-A520-32B60A96B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0159-4D7B-463B-9358-A091AD511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B16A-0D1C-49D2-A9C4-98C8F4672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5341-237F-4D42-A111-B820EC7A3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3BAC7-67F8-4342-96D4-70C67424E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6B215-751B-41AD-8E98-AC0463A56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D11D4-4167-4D71-9CAA-D36C1880B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BD0E0-C545-416B-B10D-052A77779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D0285-A231-41D7-A962-E8863A41E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5485B-2810-4132-915C-3759601DB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C8682-112B-4B6B-ADA2-0C5CB86E9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472D-4ACA-4686-B463-2DE513DCD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77A72-06A2-4884-91F9-9C9FC11DA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7DBCC-A004-4EA6-995A-17D02B97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4B9AB-3F78-41D6-A9D8-1FE823DF2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17B8B-2EAD-465C-B0E6-0F14B9242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A732D-ADDB-4E11-AF8E-58EB28DF1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B160B-049C-4D31-9EA9-5430AD73C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D0AF4-7A14-4D86-BEF0-7AE703909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3E742-25B6-4FC4-878B-549D31339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8CCAA-D93D-4890-B58D-C4059F65D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7C946-49C1-4AB7-935D-611294141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B7C8-4085-4759-9D28-54375FCCD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DB857-F840-4B72-9247-E554E96A4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611F7-64C0-4166-AC5D-B3529B91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322B8-A238-4F4A-B537-41856AC8A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F255A-1003-44ED-BFFE-F6C3EC24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3E8D2-EB9C-4B2E-9A09-B7280FE0D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CEEF8-65B9-4AD2-99CF-006B3CF6A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32989-E693-42A8-BFFD-301B758C1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8AAAA-3E14-424B-9C72-A52F93B71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315AF-E551-4EDB-863B-07F3C89F0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C181F-8BC7-4D36-84C6-013ED0E82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E30C-63AD-4E1B-84C5-CD8C96993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0A351-CFCD-4B20-87C3-55C3A698F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A2095-2316-4989-9B62-3BDB80849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AC751-8D14-422A-B55C-1F19A3FF1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E1057-BDB7-4B7B-8125-C1F266D4B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2DD84-63C9-4FE1-8A61-A30EF8FB3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18232-C26D-46B2-B63E-2BAB4FB13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9A878-3442-4951-9DD2-D166DF737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54B7B-377A-40CD-BD3A-4F8A39863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EA8FB-291E-47FD-BCB3-72CCEDA51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C7027-3E0A-4E98-AC7C-EE46FA534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7D6F-DF49-421C-860A-5DDA5950A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C27808-BA90-4398-BA4B-E8F351D65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30C175-BED9-4172-A511-B3FCFFCD4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ADB117-4296-43EF-A5F4-6D368E3CE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48F1E-C458-438D-B29A-9FEDA0D26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685D6B-BCA8-4B2E-8BC7-6ECC6DFE3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B6C69-3D68-4540-9ED7-93C7652AE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10868-11FC-416E-9679-D927BDED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61ABD4-DD74-434E-AF6E-75BF2A6E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D73DFF-B58F-4D97-A5C4-411D0DCA3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B28FD9-DE5A-4C82-89BA-36F13A421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2C92-9AE4-4CB8-B0B4-57CFA2806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6C12F-3C6C-43A3-949B-C93641024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01DE-DC55-4D1F-9D6C-452642A0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842A-9108-4816-BF0F-CAEEB5BC1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7503-494F-48C2-8297-183A2A11E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11C49-A61E-41C2-8635-39ECF682DF20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389BE-FEDF-47F6-AFC2-34C69B2176F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5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6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97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8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DC8A2-18EF-4A76-87F9-846C52CA6EB4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4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14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14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A9640-E981-4096-B76B-5677DD294E7F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9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2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9CCBA-ACA2-45BE-A452-0B90B6FFC5F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9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И 20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-202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Object 4" descr=""/>
          <p:cNvPicPr/>
          <p:nvPr/>
        </p:nvPicPr>
        <p:blipFill>
          <a:blip r:embed="rId1"/>
          <a:stretch/>
        </p:blipFill>
        <p:spPr>
          <a:xfrm>
            <a:off x="325440" y="1138320"/>
            <a:ext cx="4686120" cy="573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3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578160" y="36720"/>
            <a:ext cx="8119440" cy="507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414360" y="581040"/>
          <a:ext cx="8567640" cy="670860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 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0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по обеспечению жильем молодых семе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бюджетам на реализацию программ формирования современной городской среды</a:t>
                      </a: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строительство детского сада, ремонт зданий и благо-устройство территорий детских садов, капитальный ремонт школ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 бюджетам на реализацию мероприятий и на поддержку государственных программ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9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3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8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детских сада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образования в школа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социальную поддержку детей-сирот и лиц, принявших на воспитание детей-сирот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детей-сирот жилыми помещения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1254240" y="331920"/>
            <a:ext cx="7412760" cy="7484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006666"/>
                </a:solidFill>
                <a:latin typeface="Arial"/>
              </a:rPr>
              <a:t>СТРУКТУРА СУБВЕНЦИЙ НА ВЫПОЛНЕНИЕ ПЕРЕДАВАЕМЫХ ПОЛНОМОЧИЙ В 20</a:t>
            </a:r>
            <a:r>
              <a:rPr b="1" lang="en-US" sz="1700" spc="-1" strike="noStrike">
                <a:solidFill>
                  <a:srgbClr val="006666"/>
                </a:solidFill>
                <a:latin typeface="Arial"/>
              </a:rPr>
              <a:t>20</a:t>
            </a:r>
            <a:r>
              <a:rPr b="1" lang="ru-RU" sz="1700" spc="-1" strike="noStrike">
                <a:solidFill>
                  <a:srgbClr val="006666"/>
                </a:solidFill>
                <a:latin typeface="Arial"/>
              </a:rPr>
              <a:t>ГОДУ (318,85 млн.руб.)</a:t>
            </a:r>
            <a:endParaRPr b="1" lang="en-US" sz="17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47" name="Object 6" descr=""/>
          <p:cNvPicPr/>
          <p:nvPr/>
        </p:nvPicPr>
        <p:blipFill>
          <a:blip r:embed="rId1"/>
          <a:stretch/>
        </p:blipFill>
        <p:spPr>
          <a:xfrm>
            <a:off x="517680" y="1152360"/>
            <a:ext cx="84596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02-06T00:08:13Z</dcterms:modified>
  <cp:revision>160</cp:revision>
  <dc:subject/>
  <dc:title>Структура собственных доходов на 2016 год бюджета Дальнереченского городского округа</dc:title>
</cp:coreProperties>
</file>