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86D1-0676-4C8C-9FD1-A782C5DE14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EB67-B1AC-40A4-80DF-0311AAE8C94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D62F-375E-49BE-8CC7-0D9C40290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6FB5-55D1-4AB8-B3C2-0A765927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42AF-A840-4441-ABAD-73EE3F944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51EF-BE37-4BE1-9020-2E51BF68E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0E6F-A1B4-4FDF-8AE1-A2C38C67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752A-9ECA-447F-A3AD-E1E4932E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B100-2AE7-4DA8-916A-8E657FBA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BCD6-9011-4BD0-8D57-9A051412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0224-DAA7-4244-AC03-823325D2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CA2C-2407-4AE7-88B9-5B771EAB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4456-567A-45D0-B4E4-7B61750D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59A0-080B-4D80-9A12-DE734DAD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FC55-F9BC-4E62-8856-3B7BDB99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95D6-A6E8-426D-81A0-F547E5F7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522F-F25E-421C-B234-D367D23B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2448-1932-4B58-A60A-EF1618F8E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25FA-D493-45EA-A097-1F5F73B84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2C665-1CAB-4960-A9D6-43451159F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F3312-3CC2-487D-99E9-598BBADA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2FC63-3E18-440C-A09B-E525B390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F6B1D-715E-454F-AA5B-9FC3EC6A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E5AAD-FF68-401B-A01A-148AB7DC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EAFF-1EB1-4CEA-A188-EB0FFF99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F651D-750E-455A-ADCD-B484C742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90511-7516-4840-BD91-BC779A8A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6999F-6E71-4EDC-8782-425068E7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3DC9D-8F4F-463D-B4D0-7C492B78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1DA65-408C-4BC5-AE96-972DF837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E23E0-F649-45A1-822A-B830694AF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A384A-A0CE-46EA-AAD2-23E42D2DE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AFD9A-EFE9-43FD-8784-52BC1424B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D8743-A334-49FB-B90A-3CB3CD67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350C5-8866-4C04-9D74-9004F98B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DE0C-13F3-49B5-AE3C-5A42D78F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37C0A-37B2-4376-9CA9-B08C978E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F8149-89B9-47E3-923B-00006028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5FD50-0229-4504-9E38-4ABDF6C3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35803-12CD-4E29-840C-47CF5903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E8EF1-7AAC-41D5-9958-64E4F5F4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95A96-53FB-4DE8-AFE6-AA5BD0D1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9F020-5872-4623-9547-0B4FF44A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856D3-A0F5-4E57-812A-A374BF6CE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EDFC8-0988-4688-A315-0A3AC09C6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53A68-7B25-4620-8034-6485C8792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5139-525F-4BD9-AA6D-65220FA2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CADD5-76FC-43F1-84B2-8D440646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440BB-3AA1-40AD-8A6A-1C7FBA3A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227A4-0C1A-472F-A509-DCFDA5EC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F20EF-480B-4162-8304-DF512B01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D4FB0-F255-44C7-B524-1C61E990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E4856-04C2-4AC9-B042-5610AEE7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177CC-A1A2-4F95-A28B-D1056191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14F96-EB8A-45D5-BFC1-0D1788F0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512B6-0491-4F66-AAFE-E01E722E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474D4-0A31-4153-A52C-F42EB6E37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37FE-7953-4002-9F79-7BEEDF64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24B40-AEB8-41E7-9F2C-CCC8DB94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FC8BE-D294-413C-B2A3-BDEE05630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91A7C-A633-491E-AF90-75721AC3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B7310-BB18-460A-A9EB-C34D87DF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CACDD-FD69-44C5-B500-690DDB68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73BE0-E6FB-4973-BD16-5F613051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8F3BD-FE97-43D7-B91B-2AD7BBEE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CB62D-8E3C-425B-B32D-AD5ED008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D67E3-DF7C-46AF-9ED0-B0E93B55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296C5-A109-4C03-AB93-F486F762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0AE4-F3A0-4B02-9C46-F1172F89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EB18C-A2B5-47C1-9CBE-094E5866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CE553-3577-4069-BED3-EEED13E5B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99F7A-FCAA-4996-B40A-E0A1435D3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3F2B-3CB3-41D5-8ED5-3109DB1F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2DB3-0FE7-4C55-849C-A7E975D6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E46F-70E4-49E3-8210-E8109330839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57F0-D16B-448C-89B8-3CD54121E1F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F2A7-50E0-4A2B-95C5-57C8247FADA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F6BB-B7A3-47D7-8D1C-FFEF11C653A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826E-661B-4D3D-A950-CAF461A1919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8800"/>
              <a:chOff x="637560" y="534600"/>
              <a:chExt cx="8109000" cy="2988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88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765C-F355-418A-91E8-E0511D71345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782,15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8,61 млн.руб. (местный бюджет – 178,44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70,1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77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1,8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20,12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,6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.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(по состоянию на 01.10.2019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990720"/>
          <a:ext cx="8567640" cy="62452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-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768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02,1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по состоянию на 01.10.20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7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78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5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23:01Z</dcterms:modified>
  <cp:revision>213</cp:revision>
  <dc:subject/>
  <dc:title>Структура собственных доходов на 2016 год бюджета Дальнереченского городского округа</dc:title>
</cp:coreProperties>
</file>