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A510-C53F-4F5F-A2B0-9AF588384F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3794-5FF0-4C13-B34F-30197849865C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5DF7-C16C-425F-AA54-6AEEA3BDD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0853-5808-4E16-8DC2-D2F0692E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8D90-25B6-4627-A02C-5F383BB9A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6BAA-164E-4DE0-9518-DEDBE6F39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0821-E4CA-40D5-BF8F-506C174CE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8419-AB01-4CAF-9B35-10F03965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96D2-0867-403A-828A-1A39D6E4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652C-6363-44E5-BFD9-8E9F7978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23E4A-738D-4AAA-9094-7D551514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271B-97D9-4B43-A077-B3F2F0A4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EA83-1A95-4D49-A24A-40EF4F58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3639-87C0-432B-8A5A-15318880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A6F5-07FA-4E9E-A296-9CEB8F2F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EB03-9764-4B26-86FF-981054FA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6162-B516-41F3-8AF0-A0058C92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0A16-C1D8-463C-8C3D-866B975AA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6698-E84A-4348-9FDE-91F12F986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AD9C7-1CF7-49BF-9912-D55E3F48A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F6629-3BF6-4DF1-B34D-58DBE76F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8DC6A-80FC-4FC2-8F9C-E571F7D4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2E512-687D-4121-BC99-A230A12B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64D24-2721-447D-9100-E62E12D3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7734-09C8-4E2E-BC47-20FCD86F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F9D2B-00F4-468E-849D-CA0F9901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CBA8A-34D2-496A-A5C1-36C61631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22BF7-05CC-47F4-A572-72D37CB0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1E553-EEA9-40DB-9381-EB365C36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7B883-5B08-444B-AAB5-80B8BF9F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E5C8F-79DC-4288-830D-E61D79E45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C2A96-53F9-454F-92E4-668C4E47B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DA867-103B-472E-87E6-722839711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DEC26-0359-42C5-8A4E-29DAA138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CB08C-E47B-4BD2-802B-3E80A47B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90D8-F5CE-4E5C-8088-3815474B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0DE2E-329B-4459-BCCC-007ED2B3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A792E-95AD-4580-9D54-F3009CBA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7E1F9-C90D-4A33-9625-36A7CD5F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A3D57-0D94-46DC-A5CC-985A921E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356BF-69BF-4928-A1BC-BDAA7D9F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47D98-D47D-4E25-81AC-AABCE977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129D8-63F9-471C-8635-BCCA3482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91CE3-4BDB-4DE8-875C-D6EAFA326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70C9E-B8A0-46E8-B776-9C81907B0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C2803-140E-4054-8D39-6E3C45B22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E0FC-0FC6-4898-A9FC-B1F9B82E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1904C-C83A-4623-9913-1D46055E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E279C-F61B-4368-939A-80904A01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5AB75-B5C1-489C-8696-BCBA7C0C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CC2AE-8108-4AE7-8193-66EEB95F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857FB-9E14-48C1-8D42-7506E86B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CD936-CA93-466C-B236-A448C6AB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8C8B6-46E9-4522-9D11-9B1F308E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D4718-0224-4008-BD19-211C6E95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D7E10-2EDB-492A-BA2B-ECA74DC4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DE50D-C3E0-4DD6-9F21-F69279EB1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5FE9-27BE-42E7-A462-4F57FF65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5806C-15C6-4378-B8BA-4E62D7D22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92FC5-9203-4333-A03C-9F1F17726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2E7EC-F563-4A87-B7E7-324F4241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63E2B-D3E9-4A76-8158-7AE46F49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73345-CF12-4811-8738-50AF6F7A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44F4A-8FC3-4965-8EC1-8B34D7B2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B7B9C-9BAE-4A72-B705-7FFAAE27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16921-F818-44D0-86D9-1B62E824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52017-1086-4BCB-8AE5-15818C04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75881-9D35-4724-AE7A-9C6749CD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42ED-150D-41A9-B269-EB77C130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605E1-9394-49FA-B126-1E5E381A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D7AA5-FE37-40A5-B4CA-8A0DB7A3C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E1800-3DD5-404F-8EAE-CDF580565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A047-8104-4510-B379-C0D3EF64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127F-042D-4936-A515-F2E6270F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0E44-77F2-473B-AD21-482F0D1B656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C394-A0B3-4B5B-BD62-7AB4F513C55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97A7-1144-4D90-8C0D-FBFA9378233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B8CC-606D-4F93-8B1E-4C442E64483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8E88-3A52-4D74-964B-B97747AAABA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25F5-40FF-4115-8D3B-008EF5627E2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1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507816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4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оздание в школах, расположенных в сельской местности, условий для занятий физической культурой и спорто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46Z</dcterms:modified>
  <cp:revision>161</cp:revision>
  <dc:subject/>
  <dc:title>Структура собственных доходов на 2016 год бюджета Дальнереченского городского округа</dc:title>
</cp:coreProperties>
</file>