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9BD9-B05F-47D3-9122-1825EF8C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6852-BCC8-4D9F-BB11-61BE0CB5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3090-A87A-46D6-B340-8962DF180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5621-B705-4153-9F9A-C7D81C98C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FE6F-AD3C-4233-BB3A-C8B75B57F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5713-B9FB-46C4-9678-CFCE4489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062A-BFC2-4563-9C64-41DB51CC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BF4A-991A-40BA-8F2E-3DB1A7BB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D1D8-5B8C-47E5-BBEE-42F7EF0F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CA6C-F232-4105-A968-0331EDFF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F6D1-FBE0-4F1F-A621-5215AE87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53E3-7B38-44FB-B6E7-8D255BDB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AA94-E06F-416E-98B6-7E90585A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E7A5-14BF-45C8-986F-B4EC9844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70EC-4120-4EB2-AEB4-635CC0C2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1C3E-0A4F-4C71-A3D9-B19F026C9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150A-0A6D-4507-B00F-E727D5E33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DB97-A5A6-4AC3-BEE9-81DA7273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7EB4-19F2-4EA1-A6CB-B1106D75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7A7F-17AC-4D52-B940-4740E009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6648-2E18-4550-BDF5-BC1FE07C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C029-1E7A-4A00-9BC4-09C978C1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FAB0-B2D9-4664-A104-1B735FBB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8660-332A-4DF7-B8FD-7D72D7F7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FD5A-D10B-4E2B-8579-87BF390320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929F-677D-4B3D-B32E-F37DEAB1B56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9 ГОД И ПЛАНОВЫЙ ПЕРИОД 2020-2021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33:04Z</dcterms:modified>
  <cp:revision>43</cp:revision>
  <dc:subject/>
  <dc:title>Структура собственных доходов на 2016 год бюджета Дальнереченского городского округа</dc:title>
</cp:coreProperties>
</file>