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B60-9D43-45B0-80D4-BE7540D7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91E4-978A-43FE-AE87-059107A2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70F-78FC-433C-A3C9-FEBA260F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77E-260B-47CC-A432-741043AD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4082-D29A-412C-8972-6D97F10C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654A-0A5D-4961-82C1-F3F2A534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3B6D-3DF0-4BDB-958F-D9804436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4F9E-7D36-4110-AE80-96E6084A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4E7D-F183-4792-963A-63780E1B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C844-00AD-4BD5-AF2F-DCF82D0C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B36D-94A4-4995-A07D-BBCA4C70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178-6C87-4C23-95E2-B2783821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9E80-C53D-4033-88C5-C3F333A3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D42A-A296-46EB-8EE7-C1027B7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581D-AED6-4D2E-A990-5973DD3E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6EB4-193A-4E9D-846E-89E57551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0A1B-F088-4EA1-B093-A8128D4A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6C62-6866-43A3-96E4-35DC5998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9992-A0FB-4CC6-8643-706ED13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65524-9D72-4C64-A8A2-D360C293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DC59E-B9D6-4AC6-B463-AE53727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29D8-9CF7-4BE9-AE6C-5099FB45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0A2-6497-44A4-B36C-6C7A789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55A4-5320-4D2C-8EF8-0CFEEB83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00CC-7C34-4F38-857B-1C3F701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775E-8B6D-4FFC-85FE-1FDD170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0E16-4BD1-43A2-8497-8C74ED50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BDFA-00AD-40AA-85E2-E913C72E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314B3-D1A7-480B-B0FE-5F89258F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B3643-1AD1-46E0-A576-5417C7F4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AB3E-8D36-41E5-9299-5A99FE4E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CE08-0B03-46B7-9C7F-6160427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70B28-3029-409D-92A8-74ED59B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08FF-5711-425D-8C4C-3942B0CB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FE793-F9EA-47E8-907A-469A7301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A19C-9263-40EC-ADB8-44061D1C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09BE-C6B0-42EB-A3C4-79969FE9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2CCAA-F196-4504-9115-64372A89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F184-90F0-46A7-B5D6-1226AF41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3D599-143C-4EF4-81E1-8CA319B4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09BD7-944F-47B9-9DC0-D4089C45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2911D-0C9A-4A82-9A1B-10ACA0E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6236-18D5-409D-A059-28188470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6DB7-70B8-4BED-8D17-2DCF8C0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47F-C8CA-4E2E-98F0-D0A80CD5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9763-93A3-4AA6-B529-73614041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01ECE-ECC1-4782-83E4-5795495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D7CF8-E4E4-48D0-86C6-CED47ADE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3EB22-3532-4664-9F44-8565B01E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D300-9EF3-4AE0-877A-681D84A9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5AEA3-C85B-45FE-9572-4399AE75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B211-FB7F-4F1F-A4EF-A6FCBBDE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75B8F-7B20-4EB3-B718-E5C87D2E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5C460-1864-4215-9C69-8666821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29AEC-31B2-47F1-8C92-7085DB9F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3F22-9EB0-4661-A7C1-B9CB0ACC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3583A-F4A5-4C9D-BC7D-E606793D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E0DA8-FCDD-455D-98B9-191BAFAD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0B668-3840-4810-A11D-10510F3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3FFD1-E35F-40B0-B3F5-7E71EA35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BC626-B4D9-403F-8493-1010BCA8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2EAC1-5002-4AC8-B16F-D83041C4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35C2-7722-42CF-AA41-3BF67B5C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B8764-50CA-4589-837B-6BF5DA9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AC4C-1C5A-4884-9C5E-3E62CF0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084E7-7FFF-4991-AAEE-7F0D56A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B62E-E4DB-4D46-A5FF-B8BCD020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441CC-7ADB-4C5E-B43C-9DAF9482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4AFB5-2CFB-4228-8E18-65B877D1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AFF63-4BE2-4BAB-8D82-391A0CEC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7C8-580F-430F-BF1C-41513B6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841-2504-4C83-AA7C-55704654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E4BB6DB-604F-4CC7-B0FE-D695C5E954B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FEB2F0F-9A7D-46B9-A649-08935A3C1A6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F0185BB-2551-4570-A3BE-FE63BE2EB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DC92BAB-41CE-4FD9-8E0B-94F6EE134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93D0777-D4CA-444C-A84F-4EB812C940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4A2EFE5-A5DD-46BF-B56E-4D3E82F372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92272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8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0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2,9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3,4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72,67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9 год – 357,91 млн.руб. (местный бюджет – 156,47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1,44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66,2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9 год - 6,1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1,09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2,6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9 год – 1,8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(по состоянию на 01.10.2018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0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800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2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9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7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6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560,67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06,4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по состоянию на 01.10.20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6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7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2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7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2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2,5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1,5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9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ГОД (572,67 млн.руб.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11-07T05:14:40Z</dcterms:modified>
  <cp:revision>130</cp:revision>
  <dc:subject/>
  <dc:title>Структура собственных доходов на 2016 год бюджета Дальнереченского городского округа</dc:title>
</cp:coreProperties>
</file>