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21FF-3D9E-4D8C-B031-EA43854A7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5FC4-A067-4A90-A8E9-294CAE42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2564-8413-4243-9CAD-BB725F09F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E1DC-E35A-44EC-A4D6-68B8F4BFE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64D2-3E6A-4272-924C-9933E23FD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E2D55-AC52-4A55-BA93-027D599E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3714-F4F1-4818-9476-26CEE44C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AD09-B114-45C0-BD9B-B149729B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019DD-1E93-4551-BA5D-CB674554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7A09-31C7-453A-9F6E-97067BB2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2229-C20B-49A1-8F72-DE451F9F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CAD3-B6B2-443E-B2EC-388A60D6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6B3A-61AE-4371-8E29-AC40588E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0751-6B73-41DE-BCC2-912F7367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22A9-EACE-40BE-89FB-681C3334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BDED-3E33-4BE2-A46A-96BF23A53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7CF8-F4CF-4A02-BCCE-368801011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804BB-288A-4CF0-ADF5-A94D85C72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5CEFF-B467-4DF4-BB7C-9EA6D595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B0133-985B-472E-A453-78B4A126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CF902-DC33-4D79-8C24-8A4C9548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0F075-95CE-4041-B290-8A9494AF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7F65-BE39-434D-8D94-FF0CC20F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D7D25-C312-4357-81FF-19ABFE7A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8723B-6B52-41E1-8C63-F8CD6F45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E1A9A-0E95-43C1-AAC2-E2588907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31190-809E-4338-8967-55DEB886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10867-23FE-4D11-9853-603B68C6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B22E5-46E7-4D43-8EAE-64791A07F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D1578-62E0-4205-B56F-B86E048B2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85B1A-B428-4DDB-9513-9D3F93298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AD46F-4819-40C1-BF6D-F7D59F73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CA1EB-BC8D-4938-9908-BE0C88B2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46D9-EA28-4B53-80DA-411CC8F1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D3960-CB1E-489C-8975-1B8B4FA9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9A051-4392-4BD4-AF03-80348898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0D963-1EDB-4293-A6C9-4804C5A5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F26B7-5BBA-4751-8556-884786A8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E2F27-5C29-4F42-957C-7FC3CDA4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F534B-D0DB-4142-A4F7-C65E4D8F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2D757-5B90-4DD5-857A-5147ED91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5FCAB-35C2-4FE6-AF55-12C0A4E8D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C93C3-3068-4F84-8CAF-3912E5B34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63FEB-47F9-43C8-B6E5-EA27CA1A8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E764-0192-44B9-8334-A9B2860D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ED1AE-1F4D-4805-BC94-859C9E91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6FCB9-E96D-4396-BFD2-AEAEB6AB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D6D4E-7868-4004-BB7D-3D57E748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4BD63-84BD-48FF-BD52-E0973CDC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8E309-4F92-47DB-86F3-E7BADFC0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CF06C-BE9F-493B-8325-FE4E9976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1EB11-18B5-4EF2-BECA-09B30D3F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19DC6-40DD-4010-A3D3-060BAE3B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84DA7-C170-4662-86DD-B8063AF6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E5DBB-ABB8-478A-867A-DF577069F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CD8A-32E8-40DA-88FE-8B4F231B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A8C31-8D7B-469B-AAC6-465B02799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932D6-9C05-46C5-A028-5CCEDC76D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9506F-C8EA-45E9-A5C4-4E2EF8B3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CE38D-35F4-427C-8A5D-4A882F58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AA38A-9C44-4EAD-A5D4-F213AB08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EFF0A-9A56-40B8-BECA-7643F96E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240B4-0CCE-472F-9BCA-60C272C8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D38E9-73AD-4620-9D0B-2ED8C8D5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4CFDF-B161-44BF-AEB6-1706D204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49A15-B124-44F7-AC53-AE41938D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D17D-C805-4202-A79C-898ABDD8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92203-1FA4-4624-8D54-7127616E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95172-AF11-4E4A-8100-09CD5F029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F6B31-17A1-4971-A2C5-07B53B9CD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A496-A6E6-4DEA-8ACA-A692F5A0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4206-B7E2-4202-B051-26B085DB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94FE548-B007-43AB-8E4E-8BD7394906B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AB30837-9EF4-4330-AA75-61F05C9370D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51FE60B-0F52-4368-80D0-A203A3CD56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C6442D6-269C-41E8-87D9-277025311F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7B73AAF-4CFA-41E4-AD3D-E482E11AC6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7E608BD-FC82-47B9-A75D-5233BFA4D92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8 ГОД И ПЛАНОВЫЙ ПЕРИОД 2019-2020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4356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10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7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3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9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9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0,7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8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11,3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8 год – 328,65 млн.руб. (местный бюджет – 118,06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10,5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50,6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8 год - 8,03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10,15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0,7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0,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7,9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1,1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296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9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(по состоянию на 01.10.2017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,5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2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8197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4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9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8 ГОД (499,3 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8 ГОДУ (279,78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57200" y="153828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3828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8 ГОДУ (215,0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9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0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8 ГОД (511,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11-03T02:00:30Z</dcterms:modified>
  <cp:revision>107</cp:revision>
  <dc:subject/>
  <dc:title>Структура собственных доходов на 2016 год бюджета Дальнереченского городского округа</dc:title>
</cp:coreProperties>
</file>